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E2F-9452-4B2C-8DC4-76406F07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881-52EB-4923-B6AB-904D9DC7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6F2-B3C8-492A-B707-0D3FC2E6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F3D-B93B-4062-AF80-6821D9AB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74C-247B-492C-9D99-850E4C48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5EC-F599-4C60-B570-C8E04ED0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B0E-1CF3-47FA-BE79-3BD9262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6A9-D2D8-4AE8-BB7F-44BBB1E4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C6E-6BAB-4C3D-907A-EE7BC550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0B9-EAF1-423C-AFD3-041F1139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0C9-713A-41CF-B16A-5AD301FB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F81-0C35-4B06-9EF4-C358BBE3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5D647-F7C4-41C1-9F8A-9EFA8FA71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245AA-DF52-4B8F-84D1-C5A9DC237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s and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st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that has the same composition and properties through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Aluminum Sheet.jpg"/>
          <p:cNvPicPr/>
          <p:nvPr/>
        </p:nvPicPr>
        <p:blipFill>
          <a:blip r:embed="rId1"/>
          <a:stretch/>
        </p:blipFill>
        <p:spPr>
          <a:xfrm>
            <a:off x="2666880" y="26971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whose smallest unit is made up of atoms of more than one element bonded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Water.jpg"/>
          <p:cNvPicPr/>
          <p:nvPr/>
        </p:nvPicPr>
        <p:blipFill>
          <a:blip r:embed="rId1"/>
          <a:stretch/>
        </p:blipFill>
        <p:spPr>
          <a:xfrm>
            <a:off x="2516040" y="2830680"/>
            <a:ext cx="41198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Per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Hydrogen Peroxide.jpg"/>
          <p:cNvPicPr/>
          <p:nvPr/>
        </p:nvPicPr>
        <p:blipFill>
          <a:blip r:embed="rId1"/>
          <a:srcRect l="-40911" t="0" r="-40911" b="0"/>
          <a:stretch/>
        </p:blipFill>
        <p:spPr>
          <a:xfrm>
            <a:off x="1082520" y="1682640"/>
            <a:ext cx="69962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Carbon Dioxide.png"/>
          <p:cNvPicPr/>
          <p:nvPr/>
        </p:nvPicPr>
        <p:blipFill>
          <a:blip r:embed="rId1"/>
          <a:srcRect l="-9755" t="0" r="-975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Mon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Carbon Monoxide.png"/>
          <p:cNvPicPr/>
          <p:nvPr/>
        </p:nvPicPr>
        <p:blipFill>
          <a:blip r:embed="rId1"/>
          <a:srcRect l="-21987" t="0" r="-2198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or more substances come together but don’t combine to make a new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Air.jpg"/>
          <p:cNvPicPr/>
          <p:nvPr/>
        </p:nvPicPr>
        <p:blipFill>
          <a:blip r:embed="rId1"/>
          <a:stretch/>
        </p:blipFill>
        <p:spPr>
          <a:xfrm>
            <a:off x="2681280" y="2895480"/>
            <a:ext cx="36687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ogenous or Heterogeno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x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mogen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ame throughou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terogen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8" descr="Pizza.jpg"/>
          <p:cNvPicPr/>
          <p:nvPr/>
        </p:nvPicPr>
        <p:blipFill>
          <a:blip r:embed="rId1"/>
          <a:srcRect l="0" t="-23283" r="0" b="-23283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Vanilla Ice Cream.jpg"/>
          <p:cNvPicPr/>
          <p:nvPr/>
        </p:nvPicPr>
        <p:blipFill>
          <a:blip r:embed="rId2"/>
          <a:stretch/>
        </p:blipFill>
        <p:spPr>
          <a:xfrm>
            <a:off x="830160" y="2722680"/>
            <a:ext cx="328932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21:51:55Z</dcterms:created>
  <dc:creator>Cleophis Carson</dc:creator>
  <dc:description/>
  <dc:language>en-US</dc:language>
  <cp:lastModifiedBy>Cleophis Carson</cp:lastModifiedBy>
  <dcterms:modified xsi:type="dcterms:W3CDTF">2011-09-13T11:08:53Z</dcterms:modified>
  <cp:revision>1</cp:revision>
  <dc:subject/>
  <dc:title>Compounds and Mixtures</dc:title>
</cp:coreProperties>
</file>